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71C-8356-4135-B6CC-45C0A760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D3B-B711-4FEE-9E69-AF01DFA3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4CB-B8C6-4C32-AF95-1F641675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636-0E50-4A23-B037-C5F65C64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4F0-17CC-4143-924D-8FDCF1E2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116-DD58-4E23-9C5C-028B4782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EDA-6A4C-4250-AA45-665B2239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8F5-9AB1-4FDA-903A-6E94753E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100-1D34-43CB-A3DC-1A46B3F5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968-5A69-44FB-B437-15F94B9D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A93-800F-48DB-8AA3-092D5B07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0C4-FA1D-47D6-8776-BC6356AB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D441-D40C-41FD-9543-249F385EF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ROSS-SECTIONAL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5105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73240" y="2376360"/>
            <a:ext cx="3187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8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28680" y="1697040"/>
            <a:ext cx="48769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30T14:16:25Z</dcterms:modified>
  <cp:revision>105</cp:revision>
  <dc:subject/>
  <dc:title>The Art in the State of the Art</dc:title>
</cp:coreProperties>
</file>